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B41CE-5EC8-4B37-9F1E-35F0C2B49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E3F-B852-4701-AFF9-9D5ABBF0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C6F-8320-4583-A7F5-715E1664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41E-0D5D-4A41-AAF6-DD461B35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278-BECF-4379-9E52-E52BAE96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D88-3E1B-4B48-959B-95E62691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F63-D776-47A3-BDE9-1B0B0FA3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8C4-6F42-4549-81AC-E1FC0A14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5F87-9DA9-4924-B776-9C2F2A92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916-EEAC-4B9D-8792-883063E5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A51-CD85-4DE4-B032-6D5893A0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3D77-7352-4604-BE90-B703578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D71-85EC-4B76-A196-C3F3545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84992-28F0-4FCC-9119-65C84E05C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2079720" cy="16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60175&amp;ct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e Pag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, January 1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, or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imple and consistent interchange format for commonly needed gen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iology.plosjournals.org/perlserv/?request=get-document&amp;doi=10.1371/journal.pbio.0060175&amp;c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making automated mining of gene info across species easier, if one wanted to, say, submit them to WikiP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73080"/>
            <a:ext cx="907128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ata_provider&gt;FlyBase&lt;/data_provi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cession&gt;FBgn0000490&lt;/acces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primary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ynonym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INTERPRO" key="69" id="IPR001111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orthologs" key="93" id="HOMSA:ENP44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common"&gt;fruit fly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cientific"&gt;Drosophila melanogaster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NCBI Taxonomy" key="107" id="7227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 map="genome" chromosome="2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ition="2428454..2459609" units="bp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ntolog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GO" key="108" id="GO:0007455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term" value="antennal disc morph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evidence_code" value="inferre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b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pubmed" key="3368" id="17034783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Bio::GMOD::GenericGen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GMOD::GenericGenePage::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some abstract clas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_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 new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page = Bio::GMOD::GenericGenePage-&gt;new($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xml = $page-&gt;render_xm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yeast set at gmod.or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mod.org/cgi-bin/gbrowse/chado_yeas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 B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n</dc:creator>
  <dc:description/>
  <dc:language>en-US</dc:language>
  <cp:lastModifiedBy/>
  <cp:revision>0</cp:revision>
  <dc:subject/>
  <dc:title/>
</cp:coreProperties>
</file>